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3F1A-3E3C-41D5-B156-EC15D7C177D7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B36-7F2E-44DD-9E9D-7FBA30A2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CD8-F2AF-43E3-B323-F28F4789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0D3-C386-4F63-A763-ACD28C48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172-395D-4B14-980D-1A70909D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C1E0-BD41-4F4B-B997-BFA4CC32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8266-B3D0-4DE1-A6FE-7D08D582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3868-763F-478D-8671-80A913DA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7A34-65F3-4166-ACAA-19F9F8AC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7F69-AA89-4A64-9846-A8F454C2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5161-CA07-411E-9B58-715E718D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D479-5CCF-40D8-B72B-DD479D9D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36B-F9DA-4289-8A34-8124FDAD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D8C7-6C04-4815-B5E2-4A2A6AC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DC66-3C8C-4D19-BA66-F5E98FF7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BCB1-BFCA-4C26-95B5-B46F13DF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7048-C6E3-43AC-B2D1-DE7B4AF5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D471-10B0-43BE-92E1-A859E95A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420-D92A-4365-A432-D3400B9E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051-4BA9-4C54-8586-292983DF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5C6-9F12-4045-A25E-0D13A66D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206-282A-4DF6-ACE5-B202A792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425-470E-41B2-8E84-78C7C51F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10C-A823-4D8A-BAF7-9333C2DE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72F-B868-4A8A-8C6A-94D508E9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88AC-7963-4125-BD9C-A75DABDF98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F270-DFA5-4B4C-ACBE-4E99FE1FAD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000160" y="1428840"/>
            <a:ext cx="5143680" cy="283608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ffff"/>
                </a:solidFill>
                <a:latin typeface="Arial"/>
              </a:rPr>
              <a:t>ADMINISTRACIÓN DE CONSORCIOS DE P.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98560" y="5429160"/>
            <a:ext cx="7345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c. Santiago A. Pontor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539640" y="774720"/>
            <a:ext cx="8064720" cy="52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Tahoma"/>
              </a:rPr>
              <a:t>4. De la Desinsec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¿Realiza Servici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n caso afirmativ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Exhibe Certificad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echa del Servici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azón Social de la Empresa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º de Registr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539640" y="1582560"/>
            <a:ext cx="80647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Tahoma"/>
              </a:rPr>
              <a:t>5. De la Conservación de Ascen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¿Posee Libr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echa última inspec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mpresa interviniente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mbre y Apellido del Responsable Técnic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º de Matrícul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539640" y="1312920"/>
            <a:ext cx="80647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Tahoma"/>
              </a:rPr>
              <a:t>6. De la Conservación de la Fach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ntigüedad del inmueble: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¿Corresponde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¿Presenta Certificado de Conservación Ley 257/99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Presenta Informe Técnico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echa de vencimiento del Informe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echa de vencimiento del Certificado de Conserv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571680" y="1697040"/>
            <a:ext cx="799920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Tahoma"/>
              </a:rPr>
              <a:t>Certificado de Edificio Segu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¿Se otorga Certificado de Edificio Seguro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echa de emisión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echa de 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lazo en días otorgado por el profesional para efectuar las mejoras observad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Disposición 1875/11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 Las presentaciones pasan de 6 meses a 2 añ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 Si no se certifica –certificado de no conform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olo podrá haber dos certificados de no conform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e701"/>
                </a:solidFill>
                <a:latin typeface="Tahoma"/>
              </a:rPr>
              <a:t>Disposición 3314/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esentación certificado con las DDJ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Certificado de no conformidad en el termino de 1 añ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Puesta a tierra y semáforo lumínico y sonoro únicamente en el Informe Inic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INGRESO Y EGRESO DE PROVEEDOR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GRESO:                     Fecha      /   /                     Horari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b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tad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pellido y Nombre Personal Autor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guro / A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GRESO:                       Fecha      /   /                     Horari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RMA:                                   ACLARAC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4 Conector recto"/>
          <p:cNvSpPr/>
          <p:nvPr/>
        </p:nvSpPr>
        <p:spPr>
          <a:xfrm>
            <a:off x="324000" y="1052640"/>
            <a:ext cx="839124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701"/>
                </a:solidFill>
                <a:uFillTx/>
                <a:latin typeface="Tahoma"/>
              </a:rPr>
              <a:t>Disposición 415/11  Instalaciones fijas contra incendi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sorci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ener Pl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Libro que proveerá el mantenedor (Libro de Act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Hacer anualmente el manteni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Hacer trimestralmente un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ener el certificado de operatividad (lo otorga el        mantenedor, el duplicado va al libro de act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 tramitació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cae sobre los Administr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e701"/>
                </a:solidFill>
                <a:uFillTx/>
                <a:latin typeface="Tahoma"/>
              </a:rPr>
              <a:t>Disposición Nº 2246/11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áscaras de escape y protección respiratoria para uso del pers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ff"/>
                </a:solidFill>
                <a:uFillTx/>
                <a:latin typeface="Tahoma"/>
              </a:rPr>
              <a:t>Disposición 2246/11 Máscaras de escape y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ccffff"/>
                </a:solidFill>
                <a:uFillTx/>
                <a:latin typeface="Tahoma"/>
              </a:rPr>
              <a:t>protección respiratoria para uso del personal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3286080" y="-1914480"/>
            <a:ext cx="15716160" cy="10686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19120" y="4028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e701"/>
                </a:solidFill>
                <a:uFillTx/>
                <a:latin typeface="Tahoma"/>
              </a:rPr>
              <a:t>Resolución 360/AP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mpresas de desinfectación y Desinsect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quisitos para certific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Dato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Fecha del servicio y venc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Emplazamiento donde se hizo el serv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S OBLIG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00000" y="1484280"/>
            <a:ext cx="338472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Tahoma"/>
              </a:rPr>
              <a:t>Lib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minis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mune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Órd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scen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146560" y="1484280"/>
            <a:ext cx="3818160" cy="51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Tahoma"/>
              </a:rPr>
              <a:t>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g. Prop. Inmue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inist.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ob. CA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g. Público.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6 Cerrar llave"/>
          <p:cNvSpPr/>
          <p:nvPr/>
        </p:nvSpPr>
        <p:spPr>
          <a:xfrm>
            <a:off x="4427640" y="2133720"/>
            <a:ext cx="360360" cy="11509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0920"/>
              <a:gd name="textAreaBottom" fmla="*/ 1100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9"/>
                  <a:pt x="10800" y="3017"/>
                </a:cubicBezTo>
                <a:lnTo>
                  <a:pt x="10800" y="3089"/>
                </a:lnTo>
                <a:cubicBezTo>
                  <a:pt x="10800" y="4598"/>
                  <a:pt x="16200" y="6106"/>
                  <a:pt x="21600" y="6106"/>
                </a:cubicBezTo>
                <a:cubicBezTo>
                  <a:pt x="16200" y="6106"/>
                  <a:pt x="10800" y="7615"/>
                  <a:pt x="10800" y="9123"/>
                </a:cubicBezTo>
                <a:lnTo>
                  <a:pt x="10800" y="18583"/>
                </a:lnTo>
                <a:cubicBezTo>
                  <a:pt x="10800" y="2009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7 Cerrar llave"/>
          <p:cNvSpPr/>
          <p:nvPr/>
        </p:nvSpPr>
        <p:spPr>
          <a:xfrm>
            <a:off x="4427640" y="3533760"/>
            <a:ext cx="360360" cy="11527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2720"/>
              <a:gd name="textAreaBottom" fmla="*/ 11026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7"/>
                  <a:pt x="10800" y="3013"/>
                </a:cubicBezTo>
                <a:lnTo>
                  <a:pt x="10800" y="3093"/>
                </a:lnTo>
                <a:cubicBezTo>
                  <a:pt x="10800" y="4600"/>
                  <a:pt x="16200" y="6106"/>
                  <a:pt x="21600" y="6106"/>
                </a:cubicBezTo>
                <a:cubicBezTo>
                  <a:pt x="16200" y="6106"/>
                  <a:pt x="10800" y="7613"/>
                  <a:pt x="10800" y="9119"/>
                </a:cubicBezTo>
                <a:lnTo>
                  <a:pt x="10800" y="18587"/>
                </a:lnTo>
                <a:cubicBezTo>
                  <a:pt x="10800" y="2009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3" name="9 Conector recto de flecha"/>
          <p:cNvCxnSpPr/>
          <p:nvPr/>
        </p:nvCxnSpPr>
        <p:spPr>
          <a:xfrm>
            <a:off x="4233960" y="519588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04" name="10 Conector recto de flecha"/>
          <p:cNvCxnSpPr/>
          <p:nvPr/>
        </p:nvCxnSpPr>
        <p:spPr>
          <a:xfrm>
            <a:off x="4233960" y="586584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ducto/s utiliz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todología  de  Apl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irma e identificación de personal actu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Domicilio de la Empre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Leyenda: Por quejas, denuncias y/o sugerencias dirigirse  a la  Dirección General de Control Av. Escalada y Castañares, Paseo Malvinas, CIFA CABA, en el horario de 9 a 14 h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obligatorio adherir una obl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Mandato del Administrador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Ley 3254 – 1 año – Renovación según R.C. o en su defecto 2/3 de los prop. presentes con mínimo quó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Dispos.3370/11 – Mínimo quórum es el 50% + 1 de los propietarios del edif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Dispos.1000/12 – Si no alcanzare el mínimo quórum se renueva tácitamente por 1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Cuenta Bancari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Ley 3254 – Asamblea decide la apertura a nombre del Consorcio o continuidad la ya exis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utorizados el Administrador y Consejo y en su defecto un consorcista. Actúan en forma conju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 Dispos. 1001/12 – Se podrá disponer por mayoría simple autorización exclusiva e individual del Adm. Para uso de la firma, salvo R.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Disposición 1809/12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Libro de Datos 2010/11/12 – Con oblea, la que contiene un código que servirá para las DDJJ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Se dejan sin efectos los libr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trol Sanitario y Agua Po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guridad Edil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greso y Egreso de Provee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ratifican en todos los términos las dispos. de es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cffff"/>
                </a:solidFill>
                <a:latin typeface="Tahoma"/>
              </a:rPr>
              <a:t>Contenido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Datos Administrador: fecha curso y entid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Datos Consorcio y posee libro Reg. Firmas-última Asamblea y Rendición aprobada o n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Personal del Consorcio: sus datos y si realizó curs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Seguridad privada: datos E. y horari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Seguros del Consorcio: datos y vigenc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Impuestos y Servicios: período, pagos o motiv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Ascensores: datos E. y Resp. Técn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Seguridad Edilicia: matrícula del profesional, vto. si certifica, sino motiv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Desinfec. y Lza. Tanques: datos E. fechas de los semestr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Desinsectación: si posee datos de 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Instalaciones contra c/ incendio: si posee, datos E. libro y certific. de operativid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Matafuegos: datos E. fechas trimestral y anu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Calderas: datos E. y Resp. Técn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Otros Proveedores contratados: sus dat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Disposición 1698/12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e701"/>
                </a:solidFill>
                <a:latin typeface="Arial"/>
              </a:rPr>
              <a:t>                          </a:t>
            </a:r>
            <a:r>
              <a:rPr b="0" lang="es-ES" sz="2400" spc="-1" strike="noStrike">
                <a:solidFill>
                  <a:srgbClr val="ffe701"/>
                </a:solidFill>
                <a:latin typeface="Tahoma"/>
              </a:rPr>
              <a:t>Capacitación del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Deben concurrir anualmente al SERACAR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creditar inscripción en 60 días ante el  Regist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Todos los 15 /12 acreditar asistencia con copia 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rtificado extendido por SERACAR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nte incumplimiento se aplica art.15 Ley 9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Por Dispos. 1978/12 se prorroga al 10/12 pa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reditar la inscrip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Resolución 408/12</a:t>
            </a:r>
            <a:br>
              <a:rPr sz="3200"/>
            </a:b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xpensas clara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Las expensas se liquidarán en un modelo único dig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 liquidación de expens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Los Adm. enviarán por correo electrónico a l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ietarios y acompañaran la digitalización de to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comprobantes y estará disponible en la web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ob. CA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Los recibos se extenderán según el modelo ún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g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Todos los ingresos y egresos deberán realizarse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orma bancarizada en la cuenta del Consor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ccffff"/>
                </a:solidFill>
                <a:latin typeface="Tahoma"/>
              </a:rPr>
              <a:t>Contenid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Datos: Cons., Adm. y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Detalle de gastos corr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Gastos no corrientes y extraordin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Empresas contrat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Resumen de Ingresos y Egre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Juicios a favor o en con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Consejo de Administ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Prorrateo de gas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Formas de p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Recibo of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e701"/>
                </a:solidFill>
                <a:uFillTx/>
                <a:latin typeface="Tahoma"/>
              </a:rPr>
              <a:t>Ley 3896 – CAB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lugares de atención al público y comercio, colocar carte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r.  Consumidor o usuario: ante cualqu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uda o reclamo diríjase al área de Defensa 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tección al Consumidor de cualquier CGP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 la CABA y /o al Tel. 147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quienes emitan facturas o tickets a consumido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nales, colocar leyenda: “147 teléfono gratuito CABA, á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fensa y Protección al Consumid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trada en vigencia 31/7/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S OBLIG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00000" y="1484280"/>
            <a:ext cx="3959280" cy="70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Lib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trol Sanitario y  Agua Po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trol Seguridad Edil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greso y Egreso de Provee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Datos 2010/11/1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146560" y="1484280"/>
            <a:ext cx="3818160" cy="54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g. Pú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g. Pú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g. Pú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g. Pú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9 Conector recto de flecha"/>
          <p:cNvCxnSpPr/>
          <p:nvPr/>
        </p:nvCxnSpPr>
        <p:spPr>
          <a:xfrm>
            <a:off x="4284720" y="3212640"/>
            <a:ext cx="721440" cy="252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10" name="9 Conector recto de flecha"/>
          <p:cNvCxnSpPr/>
          <p:nvPr/>
        </p:nvCxnSpPr>
        <p:spPr>
          <a:xfrm>
            <a:off x="4500720" y="450864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11" name="9 Conector recto de flecha"/>
          <p:cNvCxnSpPr/>
          <p:nvPr/>
        </p:nvCxnSpPr>
        <p:spPr>
          <a:xfrm>
            <a:off x="4427640" y="595008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12" name="9 Conector recto de flecha"/>
          <p:cNvCxnSpPr/>
          <p:nvPr/>
        </p:nvCxnSpPr>
        <p:spPr>
          <a:xfrm>
            <a:off x="4788000" y="659772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Empadronamiento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 A B A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e701"/>
                </a:solidFill>
                <a:uFillTx/>
                <a:latin typeface="Tahoma"/>
              </a:rPr>
              <a:t>Resolución 2497/11</a:t>
            </a:r>
            <a:r>
              <a:rPr b="1" lang="es-ES" sz="3200" spc="-1" strike="noStrike">
                <a:solidFill>
                  <a:srgbClr val="ffe701"/>
                </a:solidFill>
                <a:latin typeface="Tahoma"/>
              </a:rPr>
              <a:t> </a:t>
            </a:r>
            <a:br>
              <a:rPr sz="3200"/>
            </a:br>
            <a:r>
              <a:rPr b="1" lang="es-ES" sz="3200" spc="-1" strike="noStrike" u="sng">
                <a:solidFill>
                  <a:srgbClr val="ffe701"/>
                </a:solidFill>
                <a:uFillTx/>
                <a:latin typeface="Tahoma"/>
              </a:rPr>
              <a:t>Secretaría de Trabajo de Buenos Aires</a:t>
            </a:r>
            <a:br>
              <a:rPr sz="3200"/>
            </a:br>
            <a:r>
              <a:rPr b="1" lang="es-ES" sz="2800" spc="-1" strike="noStrike">
                <a:solidFill>
                  <a:srgbClr val="ffe701"/>
                </a:solidFill>
                <a:latin typeface="Tahoma"/>
              </a:rPr>
              <a:t>www.buenosaires.gob.ar/apps/empleadores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quie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- Información general de los empleadores: actividades económicas, domicilio fiscal, datos de registraciòn y 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antidad empleados y establecimientos en CA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ipo de contr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Lugar de residencia y datos de los empleados: nacionalidad, instrucción, discapacidad, et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final emite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stancia anu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,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úbrica documentación labo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nspector del Ministerio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AFIP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sol.3369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égimen de información respecto expensas, deberá ser cumplid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) Adm. de : Countries, Club de Campo, Chacras, Bº cerrados, Privados y Urbanizaciones Privadas para instalación de vivie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) Consorcio de Propietarios Ley 135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Se informa totalidad de importes por expensa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unes o extraordin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Las personas aludidas anterior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Quienes abonen en carácter de ocup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Emprendimientos Urbanísticos con superficie mas 400 mts.2 y el importe de expensas mayor o igual  $ 2000.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P.H. superficie mas 100 mts.2 y expensas mayor o igual $ 2000. Se anexan cochera y baul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 i en un periodo no hubiese información, se colocará “sin movimientos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i se repiten tres presentaciones sucesivas “sin movimiento”, no se presentará mas hasta que se produzca una nueva inform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ffff"/>
                </a:solidFill>
                <a:latin typeface="Tahoma"/>
              </a:rPr>
              <a:t>Resol.Gral.3377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Data fiscal (F 960/N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Reemplaza a todos los Frios. vigentes (960 exija su factura, controladores fiscales y constancia de inscripció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Es obligatorio para contribuyentes que operen con consum. Fina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El Frio. contendrá de manera codificada información de c/contribuyente y podrá ser leído por celulares inteligentes, tablets, notebook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Se obtiene ingresando en Afip Frio. 960/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Vigencia según terminación C.U.I.T del 2 al 31/10/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ffff"/>
                </a:solidFill>
                <a:latin typeface="Tahoma"/>
              </a:rPr>
              <a:t>Información que contie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Apellido y nombres, razón social, C.U.I.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Actividades desarroll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Domicili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Situación frente al IVA, Gcias. o monotribu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Si tiene presentadas DDJ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Monotributistas: si esta al día con pagos y si presenta DDJJ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ffff"/>
                </a:solidFill>
                <a:latin typeface="Tahoma"/>
              </a:rPr>
              <a:t>Información que contie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Si tiene empleados. Si los tiene, presentación DDJJ 9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Si tuvo clausuras, fiscalizaciones, causas pe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Si integra base de datos facturas apócrif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Si tiene juicios fiscales en trámite o paraliz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Si está incluido en Central de Deudores del BC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-Si está o no autorizado para emitir comprob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ccffff"/>
                </a:solidFill>
                <a:latin typeface="Tahoma"/>
              </a:rPr>
              <a:t>Vencimientos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Base de datos: último día hábil de agosto (anual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Registro Empleadores CABA: mayo (anual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Capacitación-SERACARH: 15 diciembre (anual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AFIP 3369: último día hábil del mes siguiente (mensual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ahoma"/>
              </a:rPr>
              <a:t>-AFIP: retención 4ta.categoría (mensual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332000" y="30960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DE REGISTRO DE 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19280" y="1247760"/>
            <a:ext cx="77054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Unidad: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iso: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to: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ech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mbre y Apell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léfo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centu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micilio constituido: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d. Post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ertificad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áct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36440" y="3096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SANITARIO Y AGUA PO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41360" y="1197000"/>
            <a:ext cx="826128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mbre de la Empres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úmero de Registr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echa de limpieza de tan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sultado del análisis del agua potable:    Apto / No ap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bserva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irma del Administrador: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irma del Director Técnico: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5 Conector recto"/>
          <p:cNvSpPr/>
          <p:nvPr/>
        </p:nvSpPr>
        <p:spPr>
          <a:xfrm>
            <a:off x="250920" y="32241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36440" y="31284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DE SEGURIDAD EDIL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50920" y="1197000"/>
            <a:ext cx="864216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 o Razón Social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RP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xhibe certificado en sector visible del edificio seg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. Nº 3205/DGDYPC/10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Profe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N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L/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trícula Nº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gistro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Encomienda Profesion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ejo Profesional al que pertenece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ítulo habilit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añía ART y/o Seguro de Accidentes Personales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Póliz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5 Conector recto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539640" y="274680"/>
            <a:ext cx="8064720" cy="68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Tahoma"/>
              </a:rPr>
              <a:t>1. De los Matafuegos y Protección Contra Incen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antidad de Matafue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¿Cumple con la dotación mínima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Cumple con el control periódico trimestral según norm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mpresa proveedora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º de Registr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Cumple con Disposición 2614-DGDyPC/2008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Cumple con la Recarga Anual obligatoria según normas vigent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Se encuentran los extintores ubicados en espacios comunes, accesibles y visibl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Se verifica que la chapa baliza se adecúa al extinto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Posee nicho de incend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El nicho está completo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539640" y="428760"/>
            <a:ext cx="80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Tahoma"/>
              </a:rPr>
              <a:t>2. De las Calde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¿Posee caldera/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¿Se encuentran habilitad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Posee Seguro de R.C. para las mism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añía Asegurado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óliza Nº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enci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echa del último Certificado de Verificación Periódic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mbre y Apellido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ítulo habilitante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sejo o Colegio Profesional habilitante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atrícula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Existe Planilla de Verificación de mantenimiento Periód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539640" y="504720"/>
            <a:ext cx="806472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Tahoma"/>
              </a:rPr>
              <a:t>3. De la Limpieza de los Tan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¿Posee Libro de Control Sanitario y Agua Potabl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¿Se encuentra en el edific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Está firmado por el Director Técn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echa de Apertura ante Escribano Públ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echa de vencimiento de la última limpieza realizad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mpresa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Exhibe el Certificado según Resolución Nº 6/APRA/11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8:58:38Z</dcterms:created>
  <dc:creator>Daniel Cirigliano</dc:creator>
  <dc:description/>
  <dc:language>en-US</dc:language>
  <cp:lastModifiedBy>W7</cp:lastModifiedBy>
  <dcterms:modified xsi:type="dcterms:W3CDTF">2006-01-10T12:15:00Z</dcterms:modified>
  <cp:revision>110</cp:revision>
  <dc:subject/>
  <dc:title>Diapositiva 1</dc:title>
</cp:coreProperties>
</file>